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D959-00C2-4ACF-B1D8-9C490579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44A-5BCD-44DE-B5AC-43A03375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D94A-0D24-41D4-99A1-73D78926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21E9-646C-4350-959F-DE47E2B3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C16-B3EE-4C31-88DE-4619BE2E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14A-281D-4B5F-9FC0-AF328EB4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25C-9401-4792-A846-1C5552A9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B8A-A884-492E-BF65-F7981E66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FDE-EDEE-43C5-8F9F-0783740C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492-96D1-48B6-A34F-559A8D8D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1B53-96BE-406E-861C-083DE05A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03D-1EF0-4F3F-878A-5E5CD68D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F381-BC7B-4ECE-B71B-8978CBC7A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5638680" cy="83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6121440" cy="7543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16477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435720" cy="74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61405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36:38Z</dcterms:created>
  <dc:creator>cdoty</dc:creator>
  <dc:description/>
  <dc:language>en-US</dc:language>
  <cp:lastModifiedBy>cdoty</cp:lastModifiedBy>
  <dcterms:modified xsi:type="dcterms:W3CDTF">2009-03-10T15:41:49Z</dcterms:modified>
  <cp:revision>4</cp:revision>
  <dc:subject/>
  <dc:title>Slide 1</dc:title>
</cp:coreProperties>
</file>